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776-98C3-4265-8740-3A48D54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AF9-8D9F-4AA8-A775-B8CDAA1C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293-F63D-4050-8A95-DEAE8328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C52-AA97-4071-AE3F-1C034189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571-88B4-4E82-B857-BAEFE6E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557-F766-4136-B00B-2CA5791B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359-8C7C-491E-9AF6-2EC04F8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BBB-1609-4024-B19E-B253B3B5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A38-727A-4437-80D9-C26B206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69E-5893-4B3B-BC9C-E4ECE8E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CC7-AA03-41BB-8EB3-D37E935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E0B-1268-4A9C-9EE0-A2968B7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B15-034F-45FF-B19D-CBC2DBAE95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1914480"/>
            <a:ext cx="7785000" cy="260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ВТОР: Напалкова Валя, учениц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7 класс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рфология- это раздел науки о языке, в котором изучаются части речи, их категории  и формы сло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Рисунок 4" descr="1225110276.jpg"/>
          <p:cNvPicPr/>
          <p:nvPr/>
        </p:nvPicPr>
        <p:blipFill>
          <a:blip r:embed="rId2"/>
          <a:stretch/>
        </p:blipFill>
        <p:spPr>
          <a:xfrm>
            <a:off x="1428840" y="3530520"/>
            <a:ext cx="6072120" cy="277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4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стоимение- часть речи, лишенная собственного лексического значения и употребляемая вместо имени существительного, имени прилагательного, имени числительного или наречия, не называя предмет(явление и т.д.) или его характеристику, а лишь указывая на ни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А знаете ли вы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9680" y="1213920"/>
            <a:ext cx="8472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зиция местоимения в составе частей речи исторически была не такой уж сильной. Включение его в ряды частей речи относится к европейской грамматической традиции, восходящей к античности. Но в грамматических теориях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века появились достаточно сильные возражения против такого подхода. В них подчеркивалась грамматическая неоднородность местоимений, которые квалифицировались как  «указательные слова» ( К. Бругман), «слова с непостоянной сигнификацией»( А. Нурен) и «средства перехода от языка к речи»(Ш. Балл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лич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, ты, вы , он, она, они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итяж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ой, твой, ваш, его, её, свой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опроси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кто, сколько, куда, который, каков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тносительные(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те же, что и вопросительные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указ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тот, тот, такой, то, таков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предели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есь, все, сам, любой, другой,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трицатель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икто, ничто, ничей, негде, никак, и др.)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неопределённые(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екто, нечто, некоторый, некий,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звратные(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ебя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ногда определить разряд местоимения можно только в контексте 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стоимение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кто, что, сколько, какой, который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огут выступать в качестве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носительны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просительны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естоиме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13" descr="images.jpeg"/>
          <p:cNvPicPr/>
          <p:nvPr/>
        </p:nvPicPr>
        <p:blipFill>
          <a:blip r:embed="rId1"/>
          <a:stretch/>
        </p:blipFill>
        <p:spPr>
          <a:xfrm>
            <a:off x="5500800" y="4000680"/>
            <a:ext cx="3357360" cy="20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ряды местоимений, как и отдельные части речи,  имеют свое лексическое и грамматическое значение, выполняют определенную синтаксическую роль в текс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Рисунок 3" descr="1240496351image011(1).gif"/>
          <p:cNvPicPr/>
          <p:nvPr/>
        </p:nvPicPr>
        <p:blipFill>
          <a:blip r:embed="rId1"/>
          <a:stretch/>
        </p:blipFill>
        <p:spPr>
          <a:xfrm>
            <a:off x="1000080" y="357192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298440" y="1378080"/>
            <a:ext cx="866952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0:25:10Z</dcterms:created>
  <dc:creator>Васько</dc:creator>
  <dc:description/>
  <dc:language>en-US</dc:language>
  <cp:lastModifiedBy>Samsung</cp:lastModifiedBy>
  <dcterms:modified xsi:type="dcterms:W3CDTF">2010-05-17T16:09:24Z</dcterms:modified>
  <cp:revision>38</cp:revision>
  <dc:subject/>
  <dc:title> Разряды местоимений</dc:title>
</cp:coreProperties>
</file>